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png" ContentType="image/png"/>
  <Override PartName="/ppt/media/image22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9.png" ContentType="image/png"/>
  <Override PartName="/ppt/media/image32.wmf" ContentType="image/x-wmf"/>
  <Override PartName="/ppt/media/image8.png" ContentType="image/png"/>
  <Override PartName="/ppt/media/image31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.png" ContentType="image/png"/>
  <Override PartName="/ppt/media/image26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80D8C6-40D8-4575-BB07-707227F683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BEE05E-CB2A-4C53-8648-EB2603CE7A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2C50CB-C81D-4CE8-B437-87FC070D9B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8CCD0E-81E7-40D1-A7B0-5A0FD9EFE7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48B7FE-2B11-4522-8402-BD9933A42C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C90616-B1F6-4135-9F03-D211C3C1F0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9CEF53-F46D-4162-8BD7-405E75CAFD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136EDF-55FA-450C-8C9A-524D940F5D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7F9AF4-76CA-4CF1-B905-AF7DE670E1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02DAF3-0B7E-4C15-80DF-CB3F23C046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A78C8A-FCB9-4E54-9F40-38A70C624B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995DF5-B833-44DD-9A61-535C90E1DB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9DA098-A4F9-43AA-976E-656F2BCA72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F4C09D-E49E-4D83-BD6B-468F615B1A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17A5DC-5F17-4409-A1B9-D44C609925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82CD63-BF6F-4A6C-9B42-915B831DBF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214A68-22D9-40C2-B8C7-5C4E7E97DD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589C22-A9AD-4FBD-BC54-29D3F2F960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7969FE-CEBE-4C8E-9E39-5D12C930E5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9D04CB-C81A-40F2-B0D6-D03D6261DE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4F7C8F-FDB7-4ACC-8299-1FE7724112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EA30C2-DDEB-4510-94B9-BAAB3B395D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F9C9D2-E17A-4809-ACF7-79BA52EF96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797EC6-2346-4F19-86D4-7D6F331069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841BD6-98CC-4741-A17A-AB30358765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48FA05-E804-4AAD-85A4-BFBF78B9C2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8E2B57-7353-4802-B40B-A7870268E2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91BA2E-630B-49F7-B29C-04B57A590B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46C82C-C44F-48C5-BBA2-648DCB04F3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2A1722-A89D-4733-9709-123FB69B10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BBAA16-759B-457E-A941-86A2794285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25A097-2096-4E6D-A2E1-B385A13E41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4328A5-6596-4D8A-8786-9DFF15C24E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19BD70-D6DF-483D-821F-22D9D2B054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C57B23-0891-4C9B-AE4C-47A3B1DA1B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1BB714-FD77-43AF-8925-FF20A4A37C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3A529B-26FD-4FA3-B381-DCA4DD0A66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FC4A2A-A239-4C9A-99F1-5B9948B75A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49EC50-B330-4B19-AABA-DFB3BC7650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92AA42-3D69-40BC-B7AD-5273C3D419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B01A48-603A-4FE2-B2ED-27F0E59C44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59D609-2F9C-4A2F-81B7-1C91CAB3E3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C8203D-1E77-4345-8A1B-5345A8868F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394049-E299-4239-9023-DD3F30E601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7179FF-EADA-4456-AA0B-2587E3386C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A54E01-0D34-4577-ABD2-86F4CCF740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89A4A9-E456-4DB7-B8B6-AA79830242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556B0B-1FE6-4CDD-B29A-A3FFB6D35D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C07E1F-9A33-4AB8-BB3D-AF09725422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28882E-A6AC-4D0F-9946-D2D8E489A5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EFB07F-A6D2-4449-9119-A110A823BF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5AD6C3-5986-4D00-9503-15B2CCAC11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C2B90B-8A0D-4DE4-8B8C-C61E64C7A2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9CEBEF-C0D3-46A7-8E97-641DEA0599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FD02C0-DD35-416F-9566-2315770A77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7E4E64-2EF2-4CC0-B88A-D77A3FC42C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C2FD58-110B-4D81-B0E9-3F5DC6616A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IGHT GIVE REAL EXAMPLES HERE? FROM WAT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29B9FC-6EC2-40A5-B0A1-5B7CB3358D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5B0CE0-5336-4FE8-B82C-462E41BE4A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144DD3-F9B7-4E8D-A296-777FC9B838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6ACCAD-8420-463B-B837-539BE9565A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D2B-FB38-47DD-9DE3-C8771A37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384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E7B-61FF-4228-AC86-CA80C37B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618-AE1E-420F-9160-796A27C4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333-E5DE-49A4-970B-E0EAB090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BA0C-8F17-464F-8EDB-415125E8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4B6C-176E-4880-A2EF-56B3B05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D8C8-1789-41B4-89A8-7F41EC01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0495-43A9-4436-9EAF-E3B7CDC9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26A2-E47C-4377-A9BE-63785F9A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D6C8-B5F3-4A25-8BBF-D1CBA7EC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CC9E-450D-4178-AD4D-FC644B6E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9B1-6FF0-4A78-9097-73F8441A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604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8C81-404D-43BF-8837-05A2FE66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6381-1D9E-49B9-846A-B010408B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880" y="40384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7072-1B2A-44DE-851E-1A40F415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604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EB33-7214-49DB-81F6-AD8DAF44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516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944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088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516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944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BC4C-2F27-4F99-AB50-27830ACF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E5C-7022-4F22-B160-8E92FAC3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B51-3A3C-4BE7-A3E1-2F2C28C9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51C-3FB0-4CD5-8BF6-0DCC7585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F86-AACC-458B-8EF3-D3F03B4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0D3-6F11-4359-8E55-7239CE0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432-0B2C-48AA-AFB4-A055E752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25A-22B2-4FB4-8FE2-77F7829C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7A0B-7693-4EE2-8B29-B878A6C924B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82FA-7D42-485B-A9B9-630CC7D88EF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" name="Object 2063"/>
          <p:cNvGraphicFramePr/>
          <p:nvPr/>
        </p:nvGraphicFramePr>
        <p:xfrm>
          <a:off x="457200" y="1143000"/>
          <a:ext cx="830592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20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3000"/>
                    <a:ext cx="830592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66DC-719C-47E8-913F-6C7364E687E2}" type="datetime3">
              <a:rPr b="0" lang="en-US" sz="1400" spc="-1" strike="noStrike">
                <a:solidFill>
                  <a:srgbClr val="1c1c1c"/>
                </a:solidFill>
                <a:latin typeface="Tahoma"/>
                <a:ea typeface="굴림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Data Mining: Concepts and Techniq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80C1-2437-48D1-A093-D66E0F364672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s.umd.edu/~getoor/" TargetMode="External"/><Relationship Id="rId2" Type="http://schemas.openxmlformats.org/officeDocument/2006/relationships/hyperlink" Target="http://www-faculty.cs.uiuc.edu/~czhai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61B0-C0A4-4FDA-B0D9-88E4E7D0DF88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793B-2C03-411C-9FF7-41C567761DE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Social Network Analysi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ocial Network 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tatistics and Probabil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Models of Social Network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Networks in Biolog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ning 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 Soci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4"/>
          <p:cNvSpPr/>
          <p:nvPr/>
        </p:nvSpPr>
        <p:spPr>
          <a:xfrm rot="724800">
            <a:off x="6476760" y="1980720"/>
            <a:ext cx="838080" cy="228600"/>
          </a:xfrm>
          <a:prstGeom prst="leftArrow">
            <a:avLst>
              <a:gd name="adj1" fmla="val 0"/>
              <a:gd name="adj2" fmla="val 292833"/>
            </a:avLst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EA6D-0A2B-468F-8D6F-7419243A6F9F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92BE-AB80-4C86-92F0-6A65FEF82A8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Social Network Analysi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ocial Network 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tatistics and Probabil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Models of Social Network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Networks in Biolog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ning 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 Soci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924680" y="3352680"/>
            <a:ext cx="838440" cy="228600"/>
          </a:xfrm>
          <a:prstGeom prst="leftArrow">
            <a:avLst>
              <a:gd name="adj1" fmla="val 0"/>
              <a:gd name="adj2" fmla="val 292958"/>
            </a:avLst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DDF1-1B7C-40D5-975D-9202F1B57E7F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EFA6-C486-4404-BF21-A449FBC74CC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ome Models of Network Gener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andom graphs (Erdös-Rény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del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ives few components and small di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oes not give high clustering and heavy-tailed degree dis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s the mathematically most well-studied and understood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atts-Strogatz model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ive few components, small diameter and high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oes not give heavy-tailed degree dis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cale-free Netwo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ives few components, small diameter and heavy-tailed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oes not give high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ierarchical netwo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ew components, small diameter, high clustering, heavy-tai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ffiliation netwo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dels group-actor 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7D18-2293-40D2-BF33-BAF366006F04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89BE-62FD-4E65-9915-0C42BB3BE5C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  <a:ea typeface="SimSun"/>
              </a:rPr>
              <a:t>Models of Social Network Gener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SimSun"/>
              </a:rPr>
              <a:t>Random Graph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Erdös-Rényi mode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atts-Strogatz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ale-fre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4"/>
          <p:cNvSpPr/>
          <p:nvPr/>
        </p:nvSpPr>
        <p:spPr>
          <a:xfrm rot="724800">
            <a:off x="7238520" y="1828440"/>
            <a:ext cx="838440" cy="228600"/>
          </a:xfrm>
          <a:prstGeom prst="leftArrow">
            <a:avLst>
              <a:gd name="adj1" fmla="val 0"/>
              <a:gd name="adj2" fmla="val 292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14F6-EF61-4395-B797-28EDED588FB0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7C9C-6FB1-4D4E-B541-06B12C795F9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The Erdös-Rényi (ER) Model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(Random Graph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ll edges are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equally probable an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ppear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NW size N &gt; 1 and probability p: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distribution G(N,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ach edge (u,v) chosen to appear with probability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N(N-1)/2 trials of a biased coin fl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e usual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regime of inter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is when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p ~ 1/N, N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.g. p = 1/2N, p = 1/N, p = 2/N, p=10/N, p = log(N)/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n expectation, each vertex will have a “small” number of neighb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ill then examine what happens when 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infin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an thus study properties of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large networ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with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bounded deg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Degree distribu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f a typical G drawn from G(N,p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raw G according to G(N,p); look at a random vertex u in 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is Pr[deg(u) = k] for any fixed k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Poisson distribu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with mean l = p(N-1) ~ 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harply concentrated;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heavy-tai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specially easy to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gener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NWs from G(N,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F5F7-BEA7-4DC0-8E69-F37D814FC5CE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000C-6898-4FC5-B2BD-B2A09DE53A3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ER_page1"/>
          <p:cNvPicPr/>
          <p:nvPr/>
        </p:nvPicPr>
        <p:blipFill>
          <a:blip r:embed="rId1"/>
          <a:stretch/>
        </p:blipFill>
        <p:spPr>
          <a:xfrm>
            <a:off x="912960" y="1293840"/>
            <a:ext cx="3290760" cy="3433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6858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Erdös-Rényi Model (196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erdos2"/>
          <p:cNvPicPr/>
          <p:nvPr/>
        </p:nvPicPr>
        <p:blipFill>
          <a:blip r:embed="rId2"/>
          <a:stretch/>
        </p:blipFill>
        <p:spPr>
          <a:xfrm>
            <a:off x="7010280" y="106200"/>
            <a:ext cx="1706760" cy="1905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762120" y="51814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- Democr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-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858000" y="2087640"/>
            <a:ext cx="2286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굴림"/>
              </a:rPr>
              <a:t>Pál Erdös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  <a:ea typeface="굴림"/>
              </a:rPr>
              <a:t>(1913-199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2479680" y="1608120"/>
            <a:ext cx="905040" cy="259092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"/>
          <p:cNvSpPr/>
          <p:nvPr/>
        </p:nvSpPr>
        <p:spPr>
          <a:xfrm flipH="1">
            <a:off x="1196640" y="1836720"/>
            <a:ext cx="2187720" cy="76212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0"/>
          <p:cNvSpPr/>
          <p:nvPr/>
        </p:nvSpPr>
        <p:spPr>
          <a:xfrm flipV="1">
            <a:off x="1649520" y="1607760"/>
            <a:ext cx="830160" cy="22860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3384720" y="1836720"/>
            <a:ext cx="452160" cy="76212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12"/>
          <p:cNvSpPr/>
          <p:nvPr/>
        </p:nvSpPr>
        <p:spPr>
          <a:xfrm flipH="1" flipV="1">
            <a:off x="3384720" y="1836360"/>
            <a:ext cx="452160" cy="160020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13"/>
          <p:cNvSpPr/>
          <p:nvPr/>
        </p:nvSpPr>
        <p:spPr>
          <a:xfrm flipH="1">
            <a:off x="2479680" y="4122720"/>
            <a:ext cx="905040" cy="30492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1197000" y="2598840"/>
            <a:ext cx="452520" cy="160020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15"/>
          <p:cNvSpPr/>
          <p:nvPr/>
        </p:nvSpPr>
        <p:spPr>
          <a:xfrm flipV="1">
            <a:off x="1197000" y="1836360"/>
            <a:ext cx="2187720" cy="160020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038480" y="1843200"/>
            <a:ext cx="24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Connect with probability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264200" y="2741400"/>
            <a:ext cx="183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p=1/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N=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~1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18"/>
          <p:cNvGrpSpPr/>
          <p:nvPr/>
        </p:nvGrpSpPr>
        <p:grpSpPr>
          <a:xfrm>
            <a:off x="3330720" y="4648320"/>
            <a:ext cx="1775880" cy="900000"/>
            <a:chOff x="3330720" y="4648320"/>
            <a:chExt cx="1775880" cy="900000"/>
          </a:xfrm>
        </p:grpSpPr>
        <p:pic>
          <p:nvPicPr>
            <p:cNvPr id="207" name="Object 19" descr=""/>
            <p:cNvPicPr/>
            <p:nvPr/>
          </p:nvPicPr>
          <p:blipFill>
            <a:blip r:embed="rId3"/>
            <a:stretch/>
          </p:blipFill>
          <p:spPr>
            <a:xfrm>
              <a:off x="3371040" y="4724640"/>
              <a:ext cx="173556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20"/>
            <p:cNvSpPr/>
            <p:nvPr/>
          </p:nvSpPr>
          <p:spPr>
            <a:xfrm>
              <a:off x="3330720" y="4648320"/>
              <a:ext cx="8298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Group 21"/>
          <p:cNvGrpSpPr/>
          <p:nvPr/>
        </p:nvGrpSpPr>
        <p:grpSpPr>
          <a:xfrm>
            <a:off x="5638680" y="3573360"/>
            <a:ext cx="3525840" cy="3284640"/>
            <a:chOff x="5638680" y="3573360"/>
            <a:chExt cx="3525840" cy="3284640"/>
          </a:xfrm>
        </p:grpSpPr>
        <p:pic>
          <p:nvPicPr>
            <p:cNvPr id="210" name="Picture 22" descr="gaussian"/>
            <p:cNvPicPr/>
            <p:nvPr/>
          </p:nvPicPr>
          <p:blipFill>
            <a:blip r:embed="rId4"/>
            <a:stretch/>
          </p:blipFill>
          <p:spPr>
            <a:xfrm>
              <a:off x="5638680" y="4016520"/>
              <a:ext cx="3505320" cy="28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23"/>
            <p:cNvSpPr/>
            <p:nvPr/>
          </p:nvSpPr>
          <p:spPr>
            <a:xfrm>
              <a:off x="6123240" y="3573360"/>
              <a:ext cx="30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Poisson distribu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B7C9-E65F-42A9-9443-943F5F33EF8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6DD7-A463-41B8-A95C-9E750754E87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The Clustering Coefficient of a Network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et nbr(u) denote the set of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neighbo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f u in a grap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ll vertices v such that the edge (u,v) is in the grap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e clustering coefficient of 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et k = |nbr(u)| (i.e., number of neighbors of 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hoose(k,2): max possible # of edges between vertices in nbr(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(u) = (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actu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 # of edges between vertices in nbr(u))/choose(k,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0 &lt;= c(u) &lt;= 1; measure of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cliquish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f u’s neighborho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lustering coefficient of a grap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verage of c(u) over all vertices 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5867280" y="4572000"/>
            <a:ext cx="395280" cy="425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8001000" y="5715000"/>
            <a:ext cx="395280" cy="425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6934320" y="6019920"/>
            <a:ext cx="395280" cy="425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5562720" y="5943600"/>
            <a:ext cx="395280" cy="425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6705720" y="5257800"/>
            <a:ext cx="395280" cy="425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6248520" y="487692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5943240" y="5562720"/>
            <a:ext cx="7621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7086600" y="55627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7010280" y="563868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6172200" y="4952880"/>
            <a:ext cx="83808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7"/>
          <p:cNvSpPr/>
          <p:nvPr/>
        </p:nvSpPr>
        <p:spPr>
          <a:xfrm flipH="1">
            <a:off x="5866920" y="502920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5943600" y="61722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9"/>
          <p:cNvSpPr/>
          <p:nvPr/>
        </p:nvSpPr>
        <p:spPr>
          <a:xfrm flipV="1">
            <a:off x="7315200" y="601956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6248520" y="4876920"/>
            <a:ext cx="17524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1"/>
          <p:cNvSpPr/>
          <p:nvPr/>
        </p:nvSpPr>
        <p:spPr>
          <a:xfrm flipV="1">
            <a:off x="5943600" y="5867280"/>
            <a:ext cx="20574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3033360" y="547704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k =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choose(k,2) =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c(u) = 4/6 = 0.666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BDD0-D99E-45CC-9CD0-650B1BFC82E2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F812-78A4-4A4A-AFDD-DC95EC848DD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: My friends will likely know each oth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114800" y="18860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obability to be connected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5"/>
          <p:cNvSpPr/>
          <p:nvPr/>
        </p:nvSpPr>
        <p:spPr>
          <a:xfrm flipV="1">
            <a:off x="3276720" y="241884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657600" y="272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191120" y="25560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#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f links between 1,2,…n neighb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267080" y="29368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(n-1)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4267080" y="29368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Object 10"/>
          <p:cNvGraphicFramePr/>
          <p:nvPr/>
        </p:nvGraphicFramePr>
        <p:xfrm>
          <a:off x="1447920" y="1886040"/>
          <a:ext cx="184788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86040"/>
                    <a:ext cx="184788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11"/>
          <p:cNvSpPr/>
          <p:nvPr/>
        </p:nvSpPr>
        <p:spPr>
          <a:xfrm>
            <a:off x="609480" y="4311720"/>
            <a:ext cx="381024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etworks are clustered    [large C(p)]                         but have a small characteristic path length                            [small L(p)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6" name="Object 12"/>
          <p:cNvGraphicFramePr/>
          <p:nvPr/>
        </p:nvGraphicFramePr>
        <p:xfrm>
          <a:off x="4533840" y="3422520"/>
          <a:ext cx="4610160" cy="3283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3840" y="3422520"/>
                    <a:ext cx="461016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3"/>
          <p:cNvSpPr/>
          <p:nvPr/>
        </p:nvSpPr>
        <p:spPr>
          <a:xfrm>
            <a:off x="380880" y="4572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The Clustering Coefficient of a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DB27-A524-4E81-B107-BBB1A1C6DF8C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EDC6-7D04-4FB9-89E0-20CD10BCDCF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mall Worlds and Occam’s Razor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or sm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, should generate large clustering coeffic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e “programmed” the model to do 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atts claims that proving precise statements is hard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 we do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ant a new model for every littl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dos-Reny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small di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-mod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high clustering co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the interests of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Occam’s Raz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, we would like to f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single, si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model of network generation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at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simultaneous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captures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att’s small world: small diameter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high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9EF8-D1F3-4AE9-B53F-401DB6112565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E0E4-73E2-4A35-BF2A-F90B49CC314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ase 1: Kevin Bacon Graph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ertices: actors and actr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dge between u and v if they appeared in a film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80880" y="46180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Is Kevin Bacon the most connected act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914400" y="5897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굴림"/>
              </a:rPr>
              <a:t>N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3352680" y="2286000"/>
            <a:ext cx="5791320" cy="4419720"/>
            <a:chOff x="3352680" y="2286000"/>
            <a:chExt cx="5791320" cy="4419720"/>
          </a:xfrm>
        </p:grpSpPr>
        <p:grpSp>
          <p:nvGrpSpPr>
            <p:cNvPr id="262" name="Group 4"/>
            <p:cNvGrpSpPr/>
            <p:nvPr/>
          </p:nvGrpSpPr>
          <p:grpSpPr>
            <a:xfrm>
              <a:off x="3352680" y="2286000"/>
              <a:ext cx="5791320" cy="4419720"/>
              <a:chOff x="3352680" y="2286000"/>
              <a:chExt cx="5791320" cy="4419720"/>
            </a:xfrm>
          </p:grpSpPr>
          <p:graphicFrame>
            <p:nvGraphicFramePr>
              <p:cNvPr id="263" name="Object 5"/>
              <p:cNvGraphicFramePr/>
              <p:nvPr/>
            </p:nvGraphicFramePr>
            <p:xfrm>
              <a:off x="3352680" y="2286000"/>
              <a:ext cx="5791320" cy="44197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264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352680" y="2286000"/>
                        <a:ext cx="5791320" cy="441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5" name="Rectangle 6"/>
              <p:cNvSpPr/>
              <p:nvPr/>
            </p:nvSpPr>
            <p:spPr>
              <a:xfrm>
                <a:off x="3501000" y="5983200"/>
                <a:ext cx="5219280" cy="2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3430440" y="6055560"/>
              <a:ext cx="521928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876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     Kevin Bacon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         2.786981        46       181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228600" y="2743200"/>
            <a:ext cx="2743200" cy="1600200"/>
            <a:chOff x="228600" y="2743200"/>
            <a:chExt cx="2743200" cy="1600200"/>
          </a:xfrm>
        </p:grpSpPr>
        <p:sp>
          <p:nvSpPr>
            <p:cNvPr id="268" name="Rectangle 8"/>
            <p:cNvSpPr/>
            <p:nvPr/>
          </p:nvSpPr>
          <p:spPr>
            <a:xfrm>
              <a:off x="228600" y="2743200"/>
              <a:ext cx="27432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Kevin Bac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69" name="Group 15"/>
            <p:cNvGrpSpPr/>
            <p:nvPr/>
          </p:nvGrpSpPr>
          <p:grpSpPr>
            <a:xfrm>
              <a:off x="228600" y="3276360"/>
              <a:ext cx="2743200" cy="1067040"/>
              <a:chOff x="228600" y="3276360"/>
              <a:chExt cx="2743200" cy="1067040"/>
            </a:xfrm>
          </p:grpSpPr>
          <p:sp>
            <p:nvSpPr>
              <p:cNvPr id="270" name="Text Box 7"/>
              <p:cNvSpPr/>
              <p:nvPr/>
            </p:nvSpPr>
            <p:spPr>
              <a:xfrm>
                <a:off x="304560" y="3352680"/>
                <a:ext cx="2590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No. of movies : 46       No. of actors : 1811         Average separation: 2.79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228600" y="3276360"/>
                <a:ext cx="2743200" cy="106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4827-4B06-419B-8426-7213FD02906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4689-659B-4700-BC62-F8479F97304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2" descr="klogdahl2"/>
          <p:cNvPicPr/>
          <p:nvPr/>
        </p:nvPicPr>
        <p:blipFill>
          <a:blip r:embed="rId1"/>
          <a:stretch/>
        </p:blipFill>
        <p:spPr>
          <a:xfrm>
            <a:off x="2316240" y="76320"/>
            <a:ext cx="4922640" cy="655308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H="1">
            <a:off x="1904760" y="1219320"/>
            <a:ext cx="28954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1905120" y="2895480"/>
            <a:ext cx="41148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1828800" y="4648320"/>
            <a:ext cx="685800" cy="7617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9" name="Object 6"/>
          <p:cNvGraphicFramePr/>
          <p:nvPr/>
        </p:nvGraphicFramePr>
        <p:xfrm>
          <a:off x="533520" y="4800600"/>
          <a:ext cx="12794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800600"/>
                    <a:ext cx="12794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7"/>
          <p:cNvSpPr/>
          <p:nvPr/>
        </p:nvSpPr>
        <p:spPr>
          <a:xfrm>
            <a:off x="503280" y="16754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d Stei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456840" y="63234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rtin Sh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33280" y="38242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onald Plea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154080" y="1675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82440" y="403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122040" y="632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Object 13"/>
          <p:cNvGraphicFramePr/>
          <p:nvPr/>
        </p:nvGraphicFramePr>
        <p:xfrm>
          <a:off x="533520" y="2209680"/>
          <a:ext cx="1293840" cy="16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209680"/>
                    <a:ext cx="12938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14"/>
          <p:cNvGraphicFramePr/>
          <p:nvPr/>
        </p:nvGraphicFramePr>
        <p:xfrm>
          <a:off x="484200" y="76320"/>
          <a:ext cx="1425600" cy="162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0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4200" y="76320"/>
                    <a:ext cx="1425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Group 15"/>
          <p:cNvGrpSpPr/>
          <p:nvPr/>
        </p:nvGrpSpPr>
        <p:grpSpPr>
          <a:xfrm>
            <a:off x="5029200" y="2284920"/>
            <a:ext cx="4170240" cy="3430080"/>
            <a:chOff x="5029200" y="2284920"/>
            <a:chExt cx="4170240" cy="3430080"/>
          </a:xfrm>
        </p:grpSpPr>
        <p:sp>
          <p:nvSpPr>
            <p:cNvPr id="292" name="Line 16"/>
            <p:cNvSpPr/>
            <p:nvPr/>
          </p:nvSpPr>
          <p:spPr>
            <a:xfrm>
              <a:off x="5029200" y="3809880"/>
              <a:ext cx="2590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93" name="Picture 17" descr="kevin"/>
            <p:cNvPicPr/>
            <p:nvPr/>
          </p:nvPicPr>
          <p:blipFill>
            <a:blip r:embed="rId8"/>
            <a:stretch/>
          </p:blipFill>
          <p:spPr>
            <a:xfrm>
              <a:off x="7696080" y="3276720"/>
              <a:ext cx="9781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Object 18" descr=""/>
            <p:cNvPicPr/>
            <p:nvPr/>
          </p:nvPicPr>
          <p:blipFill>
            <a:blip r:embed="rId9"/>
            <a:stretch/>
          </p:blipFill>
          <p:spPr>
            <a:xfrm>
              <a:off x="7315200" y="3124080"/>
              <a:ext cx="188424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19"/>
            <p:cNvSpPr/>
            <p:nvPr/>
          </p:nvSpPr>
          <p:spPr>
            <a:xfrm>
              <a:off x="7317000" y="22849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#87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7315920" y="266580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Kevin Bac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acon-map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C746-FB32-49CF-89CB-D8A995F8D95D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DE9D-458A-409C-A9DF-8579A107004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57200" y="45720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oc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6320" y="1752480"/>
            <a:ext cx="41907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ahoma"/>
                <a:ea typeface="굴림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individu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Tahoma"/>
                <a:ea typeface="굴림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  social relationship (family/work/friendship/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066680" y="411372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  <a:ea typeface="굴림"/>
              </a:rPr>
              <a:t>S. Mil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(1967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70000" y="5394240"/>
            <a:ext cx="62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cial networks: Man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individ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di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social inter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between them.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103400" y="4388040"/>
            <a:ext cx="174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  <a:ea typeface="굴림"/>
              </a:rPr>
              <a:t>John Gu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492360" y="4418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ix Degrees of S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8" descr="11221387"/>
          <p:cNvPicPr/>
          <p:nvPr/>
        </p:nvPicPr>
        <p:blipFill>
          <a:blip r:embed="rId1"/>
          <a:stretch/>
        </p:blipFill>
        <p:spPr>
          <a:xfrm>
            <a:off x="4114800" y="127944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D731-FF3C-4D7E-A0E2-382A1BFDF4F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3CF2-5690-4DF2-ADD5-64F4998C2C8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Tahoma"/>
                <a:ea typeface="SimSun"/>
              </a:rPr>
              <a:t>Models of Social Network Generation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SimSun"/>
              </a:rPr>
              <a:t>Random Graph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Erdös-Rényi mode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atts-Strogatz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ale-fre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AutoShape 4"/>
          <p:cNvSpPr/>
          <p:nvPr/>
        </p:nvSpPr>
        <p:spPr>
          <a:xfrm rot="724800">
            <a:off x="4495320" y="3123720"/>
            <a:ext cx="838440" cy="228600"/>
          </a:xfrm>
          <a:prstGeom prst="leftArrow">
            <a:avLst>
              <a:gd name="adj1" fmla="val 0"/>
              <a:gd name="adj2" fmla="val 292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0949-286D-46E3-94B0-CA332CD3B1BC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EB81-5A54-4F05-8654-4593275FBBF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2057400" y="457200"/>
            <a:ext cx="480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219320" y="2536920"/>
            <a:ext cx="33526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800 million documents (S. Lawrence, 19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4495680" y="4518000"/>
            <a:ext cx="32767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Impact"/>
                <a:ea typeface="굴림"/>
              </a:rPr>
              <a:t>ROBO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collects all URL’s found in a document and follows them recursiv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19320" y="1666800"/>
            <a:ext cx="3657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굴림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WWW documents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  <a:ea typeface="굴림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URL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Picture 6" descr="small_net_color"/>
          <p:cNvPicPr/>
          <p:nvPr/>
        </p:nvPicPr>
        <p:blipFill>
          <a:blip r:embed="rId1"/>
          <a:stretch/>
        </p:blipFill>
        <p:spPr>
          <a:xfrm>
            <a:off x="1143000" y="3375000"/>
            <a:ext cx="3006720" cy="3025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r2d2_klein"/>
          <p:cNvPicPr/>
          <p:nvPr/>
        </p:nvPicPr>
        <p:blipFill>
          <a:blip r:embed="rId2"/>
          <a:stretch/>
        </p:blipFill>
        <p:spPr>
          <a:xfrm>
            <a:off x="5486400" y="1774800"/>
            <a:ext cx="1681200" cy="2610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8"/>
          <p:cNvSpPr/>
          <p:nvPr/>
        </p:nvSpPr>
        <p:spPr>
          <a:xfrm>
            <a:off x="2819520" y="62485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. Albert, H. Jeong, A-L Barabasi, Natur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4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130 (199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B621-4F8D-4D80-8A09-D9033A6F3E29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AD42-0A46-4A2B-BC28-441385C0736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4" descr="gaussian"/>
          <p:cNvPicPr/>
          <p:nvPr/>
        </p:nvPicPr>
        <p:blipFill>
          <a:blip r:embed="rId1"/>
          <a:stretch/>
        </p:blipFill>
        <p:spPr>
          <a:xfrm>
            <a:off x="0" y="2133720"/>
            <a:ext cx="3048120" cy="24699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380880" y="43999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~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=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) 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-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80880" y="5441400"/>
            <a:ext cx="25909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WW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(k=500)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-9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380880" y="1676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xpected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3429000" y="158436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eal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9" descr="out"/>
          <p:cNvPicPr/>
          <p:nvPr/>
        </p:nvPicPr>
        <p:blipFill>
          <a:blip r:embed="rId2"/>
          <a:srcRect l="0" t="5059" r="0" b="0"/>
          <a:stretch/>
        </p:blipFill>
        <p:spPr>
          <a:xfrm>
            <a:off x="2946240" y="1981080"/>
            <a:ext cx="3162600" cy="2971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in"/>
          <p:cNvPicPr/>
          <p:nvPr/>
        </p:nvPicPr>
        <p:blipFill>
          <a:blip r:embed="rId3"/>
          <a:srcRect l="0" t="4456" r="0" b="0"/>
          <a:stretch/>
        </p:blipFill>
        <p:spPr>
          <a:xfrm>
            <a:off x="5918040" y="1981080"/>
            <a:ext cx="3225960" cy="2971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1"/>
          <p:cNvSpPr/>
          <p:nvPr/>
        </p:nvSpPr>
        <p:spPr>
          <a:xfrm>
            <a:off x="3708360" y="4876920"/>
            <a:ext cx="2057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)  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3962520" y="548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=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) 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4389480" y="225972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= 2.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7517160" y="2259720"/>
            <a:ext cx="125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ko-KR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= 2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6931440" y="4850640"/>
            <a:ext cx="169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)  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6248520" y="5307480"/>
            <a:ext cx="2666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WW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(k=500) 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3962520" y="626256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J. Kleinberg, et. al, Proceedings of the ICCC (199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2057400" y="457200"/>
            <a:ext cx="480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3657600" y="5410080"/>
            <a:ext cx="5257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63CA-4FE3-4FE0-AF59-DE8615EEDE9E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88FE-753D-47C4-BC30-6A018F2A304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2"/>
          <p:cNvGrpSpPr/>
          <p:nvPr/>
        </p:nvGrpSpPr>
        <p:grpSpPr>
          <a:xfrm>
            <a:off x="533520" y="2743200"/>
            <a:ext cx="8305560" cy="3886200"/>
            <a:chOff x="533520" y="2743200"/>
            <a:chExt cx="8305560" cy="3886200"/>
          </a:xfrm>
        </p:grpSpPr>
        <p:grpSp>
          <p:nvGrpSpPr>
            <p:cNvPr id="337" name="Group 3"/>
            <p:cNvGrpSpPr/>
            <p:nvPr/>
          </p:nvGrpSpPr>
          <p:grpSpPr>
            <a:xfrm>
              <a:off x="533520" y="2743200"/>
              <a:ext cx="8305560" cy="3886200"/>
              <a:chOff x="533520" y="2743200"/>
              <a:chExt cx="8305560" cy="3886200"/>
            </a:xfrm>
          </p:grpSpPr>
          <p:sp>
            <p:nvSpPr>
              <p:cNvPr id="338" name="Rectangle 4"/>
              <p:cNvSpPr/>
              <p:nvPr/>
            </p:nvSpPr>
            <p:spPr>
              <a:xfrm rot="16200000">
                <a:off x="750960" y="4859280"/>
                <a:ext cx="66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&lt;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l &gt;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9" name="Group 5"/>
              <p:cNvGrpSpPr/>
              <p:nvPr/>
            </p:nvGrpSpPr>
            <p:grpSpPr>
              <a:xfrm>
                <a:off x="533520" y="2743200"/>
                <a:ext cx="8305560" cy="3886200"/>
                <a:chOff x="533520" y="2743200"/>
                <a:chExt cx="8305560" cy="3886200"/>
              </a:xfrm>
            </p:grpSpPr>
            <p:sp>
              <p:nvSpPr>
                <p:cNvPr id="340" name="Text Box 6"/>
                <p:cNvSpPr/>
                <p:nvPr/>
              </p:nvSpPr>
              <p:spPr>
                <a:xfrm>
                  <a:off x="533520" y="2743200"/>
                  <a:ext cx="8305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 </a:t>
                  </a:r>
                  <a:r>
                    <a:rPr b="1" lang="en-US" sz="2000" spc="-1" strike="noStrike">
                      <a:solidFill>
                        <a:srgbClr val="800080"/>
                      </a:solidFill>
                      <a:latin typeface="Times New Roman"/>
                      <a:ea typeface="굴림"/>
                    </a:rPr>
                    <a:t>Finite size scaling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: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 create a network with N nodes with P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in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(k) and P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out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(k)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1" name="Text Box 7"/>
                <p:cNvSpPr/>
                <p:nvPr/>
              </p:nvSpPr>
              <p:spPr>
                <a:xfrm>
                  <a:off x="2895480" y="3276360"/>
                  <a:ext cx="3733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9900"/>
                      </a:solidFill>
                      <a:latin typeface="Times New Roman"/>
                      <a:ea typeface="굴림"/>
                    </a:rPr>
                    <a:t>&lt; </a:t>
                  </a:r>
                  <a:r>
                    <a:rPr b="1" i="1" lang="en-US" sz="2400" spc="-1" strike="noStrike">
                      <a:solidFill>
                        <a:srgbClr val="009900"/>
                      </a:solidFill>
                      <a:latin typeface="Times New Roman"/>
                      <a:ea typeface="굴림"/>
                    </a:rPr>
                    <a:t>l &gt; = 0.35 + 2.06 log(N)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aphicFrame>
              <p:nvGraphicFramePr>
                <p:cNvPr id="342" name="Object 8"/>
                <p:cNvGraphicFramePr/>
                <p:nvPr/>
              </p:nvGraphicFramePr>
              <p:xfrm>
                <a:off x="1219320" y="3790800"/>
                <a:ext cx="3990960" cy="2838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3" name="Object 8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19320" y="3790800"/>
                          <a:ext cx="3990960" cy="2838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344" name="Rectangle 9"/>
            <p:cNvSpPr/>
            <p:nvPr/>
          </p:nvSpPr>
          <p:spPr>
            <a:xfrm>
              <a:off x="4643280" y="4292640"/>
              <a:ext cx="1526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5" name="Oval 11"/>
          <p:cNvSpPr/>
          <p:nvPr/>
        </p:nvSpPr>
        <p:spPr>
          <a:xfrm>
            <a:off x="2209680" y="1419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1600200" y="1952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Oval 13"/>
          <p:cNvSpPr/>
          <p:nvPr/>
        </p:nvSpPr>
        <p:spPr>
          <a:xfrm>
            <a:off x="2057400" y="24861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Oval 14"/>
          <p:cNvSpPr/>
          <p:nvPr/>
        </p:nvSpPr>
        <p:spPr>
          <a:xfrm>
            <a:off x="3657600" y="22575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Oval 15"/>
          <p:cNvSpPr/>
          <p:nvPr/>
        </p:nvSpPr>
        <p:spPr>
          <a:xfrm>
            <a:off x="2971800" y="24861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Oval 16"/>
          <p:cNvSpPr/>
          <p:nvPr/>
        </p:nvSpPr>
        <p:spPr>
          <a:xfrm>
            <a:off x="2590920" y="1952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Oval 17"/>
          <p:cNvSpPr/>
          <p:nvPr/>
        </p:nvSpPr>
        <p:spPr>
          <a:xfrm>
            <a:off x="3244680" y="1738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V="1">
            <a:off x="1676520" y="149544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1676520" y="202896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2133720" y="25146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21"/>
          <p:cNvSpPr/>
          <p:nvPr/>
        </p:nvSpPr>
        <p:spPr>
          <a:xfrm>
            <a:off x="2286000" y="1495440"/>
            <a:ext cx="3049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22"/>
          <p:cNvSpPr/>
          <p:nvPr/>
        </p:nvSpPr>
        <p:spPr>
          <a:xfrm>
            <a:off x="3276720" y="180036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23"/>
          <p:cNvSpPr/>
          <p:nvPr/>
        </p:nvSpPr>
        <p:spPr>
          <a:xfrm flipV="1">
            <a:off x="2666880" y="1800000"/>
            <a:ext cx="6098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24"/>
          <p:cNvSpPr/>
          <p:nvPr/>
        </p:nvSpPr>
        <p:spPr>
          <a:xfrm>
            <a:off x="4495680" y="1266840"/>
            <a:ext cx="3657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=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[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=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[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7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 &gt; = 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25"/>
          <p:cNvSpPr/>
          <p:nvPr/>
        </p:nvSpPr>
        <p:spPr>
          <a:xfrm>
            <a:off x="1373040" y="1724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26"/>
          <p:cNvSpPr/>
          <p:nvPr/>
        </p:nvSpPr>
        <p:spPr>
          <a:xfrm>
            <a:off x="1830240" y="2409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27"/>
          <p:cNvSpPr/>
          <p:nvPr/>
        </p:nvSpPr>
        <p:spPr>
          <a:xfrm>
            <a:off x="1982520" y="1190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8"/>
          <p:cNvSpPr/>
          <p:nvPr/>
        </p:nvSpPr>
        <p:spPr>
          <a:xfrm>
            <a:off x="2592360" y="1876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9"/>
          <p:cNvSpPr/>
          <p:nvPr/>
        </p:nvSpPr>
        <p:spPr>
          <a:xfrm>
            <a:off x="3049560" y="23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3512880" y="1495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3665520" y="218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32"/>
          <p:cNvSpPr/>
          <p:nvPr/>
        </p:nvSpPr>
        <p:spPr>
          <a:xfrm flipH="1">
            <a:off x="2133720" y="2028960"/>
            <a:ext cx="4572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33"/>
          <p:cNvSpPr/>
          <p:nvPr/>
        </p:nvSpPr>
        <p:spPr>
          <a:xfrm flipV="1">
            <a:off x="3048120" y="1800000"/>
            <a:ext cx="2286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" name="Group 34"/>
          <p:cNvGrpSpPr/>
          <p:nvPr/>
        </p:nvGrpSpPr>
        <p:grpSpPr>
          <a:xfrm>
            <a:off x="1600200" y="3886200"/>
            <a:ext cx="6934320" cy="1608480"/>
            <a:chOff x="1600200" y="3886200"/>
            <a:chExt cx="6934320" cy="1608480"/>
          </a:xfrm>
        </p:grpSpPr>
        <p:grpSp>
          <p:nvGrpSpPr>
            <p:cNvPr id="369" name="Group 35"/>
            <p:cNvGrpSpPr/>
            <p:nvPr/>
          </p:nvGrpSpPr>
          <p:grpSpPr>
            <a:xfrm>
              <a:off x="1600200" y="4190760"/>
              <a:ext cx="2590920" cy="685800"/>
              <a:chOff x="1600200" y="4190760"/>
              <a:chExt cx="2590920" cy="685800"/>
            </a:xfrm>
          </p:grpSpPr>
          <p:sp>
            <p:nvSpPr>
              <p:cNvPr id="370" name="Text Box 36"/>
              <p:cNvSpPr/>
              <p:nvPr/>
            </p:nvSpPr>
            <p:spPr>
              <a:xfrm>
                <a:off x="2133720" y="441936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nd.edu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Text Box 37"/>
              <p:cNvSpPr/>
              <p:nvPr/>
            </p:nvSpPr>
            <p:spPr>
              <a:xfrm>
                <a:off x="1600200" y="4190760"/>
                <a:ext cx="2590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" name="Line 38"/>
              <p:cNvSpPr/>
              <p:nvPr/>
            </p:nvSpPr>
            <p:spPr>
              <a:xfrm>
                <a:off x="2895840" y="4647960"/>
                <a:ext cx="685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73" name="Text Box 39"/>
            <p:cNvSpPr/>
            <p:nvPr/>
          </p:nvSpPr>
          <p:spPr>
            <a:xfrm>
              <a:off x="5257800" y="3886200"/>
              <a:ext cx="327672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Times New Roman"/>
                  <a:ea typeface="굴림"/>
                </a:rPr>
                <a:t>19 degrees of separ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         R. Albert et al Nature (99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ased on 800 million webpages                 [S. Lawrence et al Nature (99)]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40"/>
            <p:cNvSpPr/>
            <p:nvPr/>
          </p:nvSpPr>
          <p:spPr>
            <a:xfrm flipH="1">
              <a:off x="5028840" y="4095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5" name="Group 41"/>
          <p:cNvGrpSpPr/>
          <p:nvPr/>
        </p:nvGrpSpPr>
        <p:grpSpPr>
          <a:xfrm>
            <a:off x="2286000" y="4286520"/>
            <a:ext cx="2819520" cy="1594080"/>
            <a:chOff x="2286000" y="4286520"/>
            <a:chExt cx="2819520" cy="1594080"/>
          </a:xfrm>
        </p:grpSpPr>
        <p:grpSp>
          <p:nvGrpSpPr>
            <p:cNvPr id="376" name="Group 42"/>
            <p:cNvGrpSpPr/>
            <p:nvPr/>
          </p:nvGrpSpPr>
          <p:grpSpPr>
            <a:xfrm>
              <a:off x="2286000" y="4476600"/>
              <a:ext cx="2819520" cy="1404000"/>
              <a:chOff x="2286000" y="4476600"/>
              <a:chExt cx="2819520" cy="1404000"/>
            </a:xfrm>
          </p:grpSpPr>
          <p:sp>
            <p:nvSpPr>
              <p:cNvPr id="377" name="Text Box 43"/>
              <p:cNvSpPr/>
              <p:nvPr/>
            </p:nvSpPr>
            <p:spPr>
              <a:xfrm>
                <a:off x="2286000" y="5543280"/>
                <a:ext cx="281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A. Broder et al WWW9 (00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Text Box 44"/>
              <p:cNvSpPr/>
              <p:nvPr/>
            </p:nvSpPr>
            <p:spPr>
              <a:xfrm>
                <a:off x="3962520" y="523836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IB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Line 45"/>
              <p:cNvSpPr/>
              <p:nvPr/>
            </p:nvSpPr>
            <p:spPr>
              <a:xfrm flipV="1">
                <a:off x="4343400" y="4476600"/>
                <a:ext cx="38124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0" name="Rectangle 46"/>
            <p:cNvSpPr/>
            <p:nvPr/>
          </p:nvSpPr>
          <p:spPr>
            <a:xfrm rot="13830600">
              <a:off x="4697280" y="4301640"/>
              <a:ext cx="7632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1" name="Text Box 48"/>
          <p:cNvSpPr/>
          <p:nvPr/>
        </p:nvSpPr>
        <p:spPr>
          <a:xfrm>
            <a:off x="2057400" y="457200"/>
            <a:ext cx="480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48DA-B809-4BBB-8384-63F86ABCFFD6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5155-3A8B-4368-9E49-A20937DF12E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ale-free Network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number of nodes (N) is not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tworks continuously expand by additional new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WW: addition of new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itation: publication of new pa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attachment is not uni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node is linked with higher probability to a node that already has a large number of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WW: new documents link to well known sites (CNN, Yahoo, Goog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itation: Well cited papers are more likely to be cited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A105-3416-40EC-9C94-9B39353B3F8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8DC6-9C9A-49F8-B245-37256771041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ale-Free Network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rt with (say) two vertices connected by an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or i = 3 to 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or each 1 &lt;= j &lt; i, d(j) = degree of vertex j so f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et Z = S d(j) (sum of all degrees so f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d new vertex i with k edges back to {1, …, i-1}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 is connected back to j with probability d(j)/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Vertices j with high degree are likely to get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link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ich get riche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atural model for many proce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yperlinks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w business and social cont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ansportation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Generates a power law distribution of deg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ponent depends on value of 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71EE-A8EE-4FDC-B705-41E0F67885A2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51F6-E900-4664-9459-AAA7787E23D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eferential attachment expl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eavy-tailed degree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all diameter (~log(N), via “hub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ill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generate high clustering co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o bias towards local connectivity, but towards hu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ale-Free Network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62A5-8B07-4439-AE8B-6AE2B243ECE9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1BFF-CC7B-4E93-99B8-660E0D53682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219320" y="487440"/>
            <a:ext cx="69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ase1: Internet Backb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Picture 3" descr="internet"/>
          <p:cNvPicPr/>
          <p:nvPr/>
        </p:nvPicPr>
        <p:blipFill>
          <a:blip r:embed="rId1"/>
          <a:stretch/>
        </p:blipFill>
        <p:spPr>
          <a:xfrm>
            <a:off x="228600" y="2722680"/>
            <a:ext cx="4229280" cy="2960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internet_power"/>
          <p:cNvPicPr/>
          <p:nvPr/>
        </p:nvPicPr>
        <p:blipFill>
          <a:blip r:embed="rId2"/>
          <a:stretch/>
        </p:blipFill>
        <p:spPr>
          <a:xfrm>
            <a:off x="4419720" y="2646360"/>
            <a:ext cx="4647960" cy="32972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5"/>
          <p:cNvSpPr/>
          <p:nvPr/>
        </p:nvSpPr>
        <p:spPr>
          <a:xfrm>
            <a:off x="4456800" y="6018840"/>
            <a:ext cx="45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Faloutsos, Faloutsos and Faloutsos, 199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2362320" y="1447920"/>
            <a:ext cx="3657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굴림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computers, routers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  <a:ea typeface="굴림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physical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ECDC-C66F-4FF6-A996-26CB4319520C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B01C-4106-4539-948C-0BB5269897A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2" descr="hal1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-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Internet-Map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F337-F149-45BA-99DE-177ADA48F462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0CD9-8220-4FA1-9D77-D1BCE070B0A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9163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Robustness of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Random vs. Scale-Free Network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867280" y="1371600"/>
            <a:ext cx="2895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he accidental failure of a number of nodes in a random network can fracture the system into non-communicating islan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cale-free networks are more robust in the face of such failu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cale-free networks are highly vulnerable to a coordinated attack against their hub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5781600" cy="515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E5B3-65BF-46EA-A9F1-C81724FD4749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2ED5-3611-4E45-BFBF-D78DC117F70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600200" y="533520"/>
            <a:ext cx="5867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ommunication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62120" y="126684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Earth is developing an electronic nervous system, a network with divers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ahoma"/>
                <a:ea typeface="굴림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and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Tahoma"/>
                <a:ea typeface="굴림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eick_arctran"/>
          <p:cNvPicPr/>
          <p:nvPr/>
        </p:nvPicPr>
        <p:blipFill>
          <a:blip r:embed="rId1"/>
          <a:stretch/>
        </p:blipFill>
        <p:spPr>
          <a:xfrm>
            <a:off x="228600" y="3886200"/>
            <a:ext cx="6324480" cy="2743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133720" y="2333520"/>
            <a:ext cx="1676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Tahoma"/>
                <a:ea typeface="굴림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-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-satell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029200" y="233352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8000"/>
                </a:solidFill>
                <a:latin typeface="Tahoma"/>
                <a:ea typeface="굴림"/>
              </a:rPr>
              <a:t>-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굴림"/>
              </a:rPr>
              <a:t>phone 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굴림"/>
              </a:rPr>
              <a:t>-TV c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굴림"/>
              </a:rPr>
              <a:t>-EM w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343400" y="2409840"/>
            <a:ext cx="14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8"/>
          <p:cNvSpPr/>
          <p:nvPr/>
        </p:nvSpPr>
        <p:spPr>
          <a:xfrm flipH="1">
            <a:off x="2906280" y="2028960"/>
            <a:ext cx="1577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9"/>
          <p:cNvSpPr/>
          <p:nvPr/>
        </p:nvSpPr>
        <p:spPr>
          <a:xfrm flipH="1">
            <a:off x="5793840" y="2057400"/>
            <a:ext cx="7308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781680" y="4115160"/>
            <a:ext cx="2210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mmunication networks: Man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non-identi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component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diver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conne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between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4B29-97A8-4341-A29D-5D5DAE5CD03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84C0-2AB3-40FA-8F30-023801B21BD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Social Network Analysi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ocial Network 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tatistics and Probabil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Models of Social Network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Networks in Biolog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ning 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 Soci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6248520" y="4876920"/>
            <a:ext cx="838080" cy="228600"/>
          </a:xfrm>
          <a:prstGeom prst="leftArrow">
            <a:avLst>
              <a:gd name="adj1" fmla="val 0"/>
              <a:gd name="adj2" fmla="val 292833"/>
            </a:avLst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927F-0435-4399-BEB4-CDFE86D89B0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D444-1A36-4C61-9E94-C1A585F6CBE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nformation on the Social Network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eterogeneous, multi-relational data represented as a graph o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Nodes are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ay have different kinds of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s hav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s may have labels or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dges are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ay have different kinds of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s may hav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s may be directed, are not required to be bin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s represent relationships and interactions between objects - rich content for m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221-D4D0-4C1D-B637-DD13DE49E62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C063-3E64-4A8E-8620-42D8D077027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What is New for Link Mining Her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itional machine learning and data mining approaches assu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random sample of homogeneous objects from single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al world data se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ulti-relational, heterogeneous and semi-structur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 M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Newly emerging research area at the intersection of research in social network and link analysis, hypertext and web mining, graph mining, relational learning and inductive logic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821A-A8EB-4BE6-AAD9-1748962DC56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6DB8-CB28-4E49-847E-F78DE88A972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228960" y="304560"/>
            <a:ext cx="9753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A Taxonomy of Common Link Mining Task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-Related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-based object ran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-based object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 clustering (group det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 identification (entity resol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-Related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 pred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raph-Related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ubgraph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raph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tive model for gra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9A0F-8416-45FE-B71A-CDAC17F2E027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60C8-390A-4BB0-9288-1F6D2B3B912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228960" y="304560"/>
            <a:ext cx="9753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What Is a Link in Link Mining?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: relationship amo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wo kinds of linke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omogeneous vs. heterogene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omogeneous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ingle object type and single link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ingle model social networks (e.g., frien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WW: a collection of linked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eterogeneous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ultiple object and link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dical network: patients, doctors, disease, contacts, trea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bliographic network: publications, authors, ve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7F9B-040A-4BD0-8799-8025A8689EA9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9F01-E838-4762-99F5-9A360AED260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-Based Object Ranking (LBR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BR: Exploit the link structure of a graph to order or prioritize the set of objects within the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cused on graphs with single object type and single link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is a primary focus of link analysis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 information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geRank and Hits are typical LBR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 social network analysis (SNA), LBR is a core analysis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ive: rank individuals in terms of “centralit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egree centrality vs. eigen vector/power centr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ank objects relative to one or more relevant objects in the graph vs. ranks object over time in dynamic gra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C6F9-D81F-416E-885A-2616F0858B7C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8B9E-F587-4877-92E0-F4455E5FD74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152640" y="304560"/>
            <a:ext cx="9296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SimSun"/>
              </a:rPr>
              <a:t>PageRank: Capturing Page Popularity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  <a:ea typeface="SimSu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(Brin &amp; Pag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SimSun"/>
              </a:rPr>
              <a:t>’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98)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s are like citations in liter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page that is cited often can be expected to be more useful in gen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geRank is essenti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 cou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but improves over simple 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direct ci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(being cited by a highly cited paper counts a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moothing of citations (every page is assumed to have a non-zero citation cou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geRank can also be interpreted as random surfing (thus capturing popular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FE23-746F-4815-87C7-417F456B1278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5FA5-563F-4C57-B589-F8C1E55189F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The PageRank Algorithm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(Brin &amp; Pag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SimSun"/>
              </a:rPr>
              <a:t>’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98)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56" name="Object 3"/>
          <p:cNvGraphicFramePr/>
          <p:nvPr/>
        </p:nvGraphicFramePr>
        <p:xfrm>
          <a:off x="2666880" y="3352680"/>
          <a:ext cx="3146400" cy="24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352680"/>
                    <a:ext cx="314640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Oval 4"/>
          <p:cNvSpPr/>
          <p:nvPr/>
        </p:nvSpPr>
        <p:spPr>
          <a:xfrm>
            <a:off x="685800" y="44197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1447920" y="36576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Oval 6"/>
          <p:cNvSpPr/>
          <p:nvPr/>
        </p:nvSpPr>
        <p:spPr>
          <a:xfrm>
            <a:off x="1676520" y="45720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Oval 7"/>
          <p:cNvSpPr/>
          <p:nvPr/>
        </p:nvSpPr>
        <p:spPr>
          <a:xfrm>
            <a:off x="1371600" y="518148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8"/>
          <p:cNvSpPr/>
          <p:nvPr/>
        </p:nvSpPr>
        <p:spPr>
          <a:xfrm flipH="1">
            <a:off x="914040" y="38862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9"/>
          <p:cNvSpPr/>
          <p:nvPr/>
        </p:nvSpPr>
        <p:spPr>
          <a:xfrm flipV="1">
            <a:off x="1447920" y="3886200"/>
            <a:ext cx="75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10"/>
          <p:cNvSpPr/>
          <p:nvPr/>
        </p:nvSpPr>
        <p:spPr>
          <a:xfrm flipV="1">
            <a:off x="1523880" y="4800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914400" y="44956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1266480" y="3314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13"/>
          <p:cNvSpPr/>
          <p:nvPr/>
        </p:nvSpPr>
        <p:spPr>
          <a:xfrm>
            <a:off x="1834920" y="41911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996840" y="48769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4498920" y="365760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ition matrix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2590920" y="2994120"/>
            <a:ext cx="415296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539640" y="39625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18"/>
          <p:cNvSpPr/>
          <p:nvPr/>
        </p:nvSpPr>
        <p:spPr>
          <a:xfrm flipH="1" flipV="1">
            <a:off x="1599840" y="38858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19"/>
          <p:cNvSpPr/>
          <p:nvPr/>
        </p:nvSpPr>
        <p:spPr>
          <a:xfrm>
            <a:off x="2971800" y="586728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Iterate until converge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Essentially an eigenvector problem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0"/>
          <p:cNvSpPr/>
          <p:nvPr/>
        </p:nvSpPr>
        <p:spPr>
          <a:xfrm>
            <a:off x="4952880" y="4572000"/>
            <a:ext cx="838440" cy="0"/>
          </a:xfrm>
          <a:prstGeom prst="line">
            <a:avLst/>
          </a:prstGeom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21"/>
          <p:cNvSpPr/>
          <p:nvPr/>
        </p:nvSpPr>
        <p:spPr>
          <a:xfrm>
            <a:off x="6629400" y="3733920"/>
            <a:ext cx="13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Same 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/N (why?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22"/>
          <p:cNvSpPr/>
          <p:nvPr/>
        </p:nvSpPr>
        <p:spPr>
          <a:xfrm flipH="1">
            <a:off x="5638680" y="41148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5791320" y="50292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Stationary (“stable”) distribution, so we ignore 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3505320" y="579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25"/>
          <p:cNvSpPr/>
          <p:nvPr/>
        </p:nvSpPr>
        <p:spPr>
          <a:xfrm>
            <a:off x="403200" y="1441440"/>
            <a:ext cx="83566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andom surfing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any pag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ith prob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randomly jumping to a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ith prob. (1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randomly picking a link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26"/>
          <p:cNvSpPr/>
          <p:nvPr/>
        </p:nvSpPr>
        <p:spPr>
          <a:xfrm>
            <a:off x="4419720" y="5486400"/>
            <a:ext cx="1271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I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  <a:ea typeface="SimSun"/>
              </a:rPr>
              <a:t>ij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 = 1/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27"/>
          <p:cNvSpPr/>
          <p:nvPr/>
        </p:nvSpPr>
        <p:spPr>
          <a:xfrm flipH="1">
            <a:off x="52578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28"/>
          <p:cNvSpPr/>
          <p:nvPr/>
        </p:nvSpPr>
        <p:spPr>
          <a:xfrm>
            <a:off x="-304920" y="5867280"/>
            <a:ext cx="398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Initial value p(d)=1/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8B8D-C3F5-4B2B-BD26-C98BFA8E32C4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9CE2-E68F-4096-839A-D6DB2992635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HITS: Capturing Authorities &amp; Hubs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(Kleinberg’98)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u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Pages that are widely cited are good auth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Pages that cite many other pages are good h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he key idea of H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Good authorities are cited by good h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Good hubs point to good auth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terative reinforc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6C82-65F0-413C-BF32-C2F8F3E6A700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C1CA-C63F-44CE-A5CD-C30C1F4AD5F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The HITS Algorithm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SimSun"/>
              </a:rPr>
              <a:t>(Kleinberg 98)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Oval 3"/>
          <p:cNvSpPr/>
          <p:nvPr/>
        </p:nvSpPr>
        <p:spPr>
          <a:xfrm>
            <a:off x="685800" y="35053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Oval 4"/>
          <p:cNvSpPr/>
          <p:nvPr/>
        </p:nvSpPr>
        <p:spPr>
          <a:xfrm>
            <a:off x="1447920" y="27432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1676520" y="36576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1371600" y="426708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7"/>
          <p:cNvSpPr/>
          <p:nvPr/>
        </p:nvSpPr>
        <p:spPr>
          <a:xfrm flipH="1">
            <a:off x="914040" y="29718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V="1">
            <a:off x="1447920" y="2971800"/>
            <a:ext cx="75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9"/>
          <p:cNvSpPr/>
          <p:nvPr/>
        </p:nvSpPr>
        <p:spPr>
          <a:xfrm flipV="1">
            <a:off x="1523880" y="3886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0"/>
          <p:cNvSpPr/>
          <p:nvPr/>
        </p:nvSpPr>
        <p:spPr>
          <a:xfrm>
            <a:off x="914400" y="35812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1266480" y="2400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1834920" y="3276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996840" y="39625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3" name="Object 14"/>
          <p:cNvGraphicFramePr/>
          <p:nvPr/>
        </p:nvGraphicFramePr>
        <p:xfrm>
          <a:off x="2895480" y="1981080"/>
          <a:ext cx="23432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23432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15"/>
          <p:cNvSpPr/>
          <p:nvPr/>
        </p:nvSpPr>
        <p:spPr>
          <a:xfrm>
            <a:off x="5184720" y="22860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djacency matrix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16"/>
          <p:cNvSpPr/>
          <p:nvPr/>
        </p:nvSpPr>
        <p:spPr>
          <a:xfrm>
            <a:off x="539640" y="30481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17"/>
          <p:cNvSpPr/>
          <p:nvPr/>
        </p:nvSpPr>
        <p:spPr>
          <a:xfrm flipH="1" flipV="1">
            <a:off x="1599840" y="29714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18"/>
          <p:cNvSpPr/>
          <p:nvPr/>
        </p:nvSpPr>
        <p:spPr>
          <a:xfrm>
            <a:off x="2692440" y="606744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gain eigenvector problems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5688720" y="31240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itial values: a=h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20"/>
          <p:cNvSpPr/>
          <p:nvPr/>
        </p:nvSpPr>
        <p:spPr>
          <a:xfrm>
            <a:off x="5715000" y="3886200"/>
            <a:ext cx="9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AutoShape 21"/>
          <p:cNvSpPr/>
          <p:nvPr/>
        </p:nvSpPr>
        <p:spPr>
          <a:xfrm>
            <a:off x="5334120" y="373392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22"/>
          <p:cNvSpPr/>
          <p:nvPr/>
        </p:nvSpPr>
        <p:spPr>
          <a:xfrm>
            <a:off x="502920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ormaliz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3" name="Object 23"/>
          <p:cNvGraphicFramePr/>
          <p:nvPr/>
        </p:nvGraphicFramePr>
        <p:xfrm>
          <a:off x="5715000" y="5105520"/>
          <a:ext cx="243828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5105520"/>
                    <a:ext cx="24382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5688-6069-49C3-92DD-A7053A18E38D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8156-4A2B-4022-B7DC-D64856ADAE3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Natural” Networks and Universality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nsider many kinds of netwo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ocial, technological, business, economic, content,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ese networks tend to share certain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inform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properti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rge scale; continual grow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istributed, organic growth: vertices “decide” who to link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nteraction restricted to lin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ixture of local and long-distance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bstract notions of distance: geographical, content, social,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o natural networks share more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universa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would these “universals” b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ow can we make them precise and measure the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ow can we explain their universalit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is is the domain of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social network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ometimes also referred to as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link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3A9A-CC86-4313-8C99-600EE46B5A74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002A-2812-4AFA-89B8-629825171A0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lock-level Link Analysis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(Cai et al. 04)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ost of the existing link analysis algorithms, e.g. PageRank and HITS, treat a web page as a single node in the web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However, in most cases, a web page contains multiple semantics and hence it might not be considered as an atomic and homogeneous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Web page is partitioned into blocks using the vision-based page segmenta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extract page-to-block, block-to-page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lock-level PageRank and Block-level H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E7CE-E79A-42CA-9D46-19A7A79C02B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2F39-2B77-4BB5-8B49-8D25AA19005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-Based Object Classification (LBC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edicting the category of an object based on its attributes, its links and the attributes of linke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the category of a web page, based on words that occur on the page, links between pages, anchor text, html tag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the topic of a paper, based on word occurrence, citations, co-c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pidem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disease type based on characteristics of the patients infected by the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whether a communication contact is by email, phone call or 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8880-6E68-47C2-A286-A801EE8F2FA5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025A-915E-4992-9E23-7CE8EC43BB2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llenges in Link-Based Classific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abels of related objects tend to be cor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llective classification: Explore such correlations and jointly infer the categorical values associated with the objects in the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: Classify related news items in Reuter data sets (Chak’9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imply incorp. words from neighboring documents: not help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ulti-relational classification is another solution for link-based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B787-AEFD-4A76-91A4-16C3FD05CBF0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82A6-2E0C-43C4-AA23-C600558A2C4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Group Detection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luster the nodes in the graph into groups that share common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Web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dentifying commun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it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identifying research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Hierarchical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lockmodeling of S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Spectral graph partiti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Stochastic blockmodel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ulti-relational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3858-1983-4B8A-AA91-E7A2DDA4F5F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7E93-6CE9-42A8-852D-65BC8002681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ntity Resolution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edicting when two objects are the same, based on their attributes and their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lso known as: deduplication, reference reconciliation, co-reference resolution, object consoli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when two sites are mirrors of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when two citations are referring to the same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pidem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when two disease strains are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logy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arning when two names refer to the same prot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F63B-78D6-4955-A20C-FABC84790428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9F06-4422-4D0D-8FD1-F04AD6B3E1A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ntity Resolution Methods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rlier viewed as pair-wise resolution problem: resolved based on the similarity of their attribu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mportance at considering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author links in bib data, hierarchical links between spatial references,  co-occurrence links between name references in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Use of links in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llective entity resolution: one resolution decision affects another if they are lin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pagating evidence over links in a depen.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abilistic models interact with different entity recognition decis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DFC-8862-401E-B1A4-11197BFA10EE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A29C-7BE1-46EE-827E-750274B38AB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 Predic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edict whether a link exists between two entities, based on attributes and other observed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if there will be a link between two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if a paper will cite another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pidem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who a patient’s contacts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ten viewed as a binary classific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ocal conditional probability model, based on structural and attribute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fficulty: sparseness of existing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llective prediction, e.g., Markov random field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6896-EFE1-41E0-A1E7-6BF4384E641F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1336-CB2B-4D89-A499-4F9886B6BD2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 Cardinality Estim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edicting the number of links to an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the authority of a page based on the number of in-links; identifying hubs based on the number of out-li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the impact of a paper based on the number of c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pidem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the number of people that will be infected based on the infectiousness of a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edicting the number of objects reached along a path from an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number of pages retrieved by crawling a sit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the number of citations of a particular author in a specific jour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E5B9-3787-4A65-8EB7-0238EE0AA8B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B4F7-364E-421E-9DC1-6099D115A8E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bgraph Discovery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ind characteristic subgra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cus of graph-based data mi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logy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tein structure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munication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legitimate vs. illegitimate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emistr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hemical substructure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ubgraph pattern m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raph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lassification based on subgraph pattern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AE06-996C-40CA-BC30-C426EB5596A4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3C2D-409C-4433-B116-6D947B85B97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etadata Min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Schema mapping, schema discovery, schema refor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matching between two bibliographic sourc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- discovering schema from unstructured or semi-structu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i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apping between two medical ont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8E0B-C830-4AE2-920E-8A2DA6B3085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92B7-DC0B-454D-B366-6B3D156B2CF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ome Interesting Quantitie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굴림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Connected component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ow many, and how larg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Networ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diamete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ximum (worst-case) or averag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xclude infinite distances? (disconnected compon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e small-world phenomen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Cluster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o what extent that links tend to cluster “locally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is the balance between local and long-distance connection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roles do the two types of links pl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Degre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distributio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is the typical degree in the network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is the overall distribu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AEBA-4EAB-4ED3-ACA0-D7DC5D512153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4895-A556-4F7F-93EB-A5305F5166C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 Mining Challeng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ogical vs. statistical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ature 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ces vs.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llective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llective consoli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ffective use of labeled &amp; unlabele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 pred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losed vs. open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469800" y="4952880"/>
            <a:ext cx="8147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hallenges common to any link-based statistical model (Bayesian Logic Programs, Conditional Random Fields, Probabilistic Relational Models, Relational Markov Networks, Relational Probability Trees, Stochastic Logic Programming to name a few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9AF1-E06C-48B0-A3A2-B33832417BE5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2165-1AEF-4D65-A0FF-B52614929BA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ogical vs. Statistical Depend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herently handling two types of dependence structu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Link structure - the logical relationships between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Probabilistic dependence - statistical relationships between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hallenge: statistical models that support rich logical relationshi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odel search complicated by the fact that attributes can depend on arbitrarily linked attributes -- issue: how to search this huge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4E17-4519-4F45-AB26-1F30A9837DCF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079A-10F0-4DDD-A980-9DC41010480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eature Construc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 many cases, objects are linked to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of objects.  To construct a single feature from this set of objects, we may either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A8BE-B1A4-4220-A707-59C4F7C4B15E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5202-4E3D-4EEE-A8CD-286568386A3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ndividuals vs. Class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oes model ref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explicitly to individu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lasses or generic categories of individu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On one hand, 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 like to be able to model that a connection to a particular individual may be highly predi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On the other hand, 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 like our models to generalize to new situations, with different individu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2823-9429-47BE-BA5F-9B925C8B9AD2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9344-130A-4245-9C17-3A1EDEB519E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ollective Classific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Using a link-based statistical model for clas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ference using learned model is complicated by the fact that there is correlation between the object lab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3367-FF04-4BF7-8AFF-1365DE119C83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D96E-85AB-47E1-9BBC-228BEF19BF7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ollective Consolid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Using a link-based statistical model for object consol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nsolidation decisions should not be made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BC4A-445B-42C5-A293-73A00CB82E50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A8D7-42F2-42B9-B0A1-85D7D9ED25B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abeled &amp; Unlabeled Data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 link-based domains, unlabeled data provide three sources of infor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Helps us infer object attribute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Links between unlabeled data allow us to make use of attributes of link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Links between labeled data and unlabeled data (training data and test data) help us make more accurate infer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33FA-1C49-4054-8A38-9D2515309B55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1555-BE1E-4561-A212-B4AEEFED1E3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 Prior Probability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he prior probability of any particular link is typically extraordinarily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For medium-sized data sets, we have had success with building explicit models of link exis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t may be more effective to model links at higher level--required for large data 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C1E8-34EE-4A43-90DB-16AAE953661F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0D44-D8E8-4C0B-AF6A-31DFB4AAE9A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losed World vs. Open World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he majority of SRL approaches make a closed world assumption, which assumes that we know all the potential entities in the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 many cases, this is unrealist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Work by Milch, Marti, Russell on B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ED1A-18D1-42E5-AAB6-2D5ED0102C15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DF22-1B8D-4716-8DDD-711AC20F6B3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Social Network Analysi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ocial Network 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tatistics and Probabil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Models of Social Network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Networks in Biolog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ning 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 Soci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AutoShape 4"/>
          <p:cNvSpPr/>
          <p:nvPr/>
        </p:nvSpPr>
        <p:spPr>
          <a:xfrm>
            <a:off x="3352680" y="5715000"/>
            <a:ext cx="838440" cy="228600"/>
          </a:xfrm>
          <a:prstGeom prst="leftArrow">
            <a:avLst>
              <a:gd name="adj1" fmla="val 0"/>
              <a:gd name="adj2" fmla="val 292958"/>
            </a:avLst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6B60-07B7-4D07-B379-C655BD11CBFE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F0ED-0943-462E-8B1D-7999BE67F5E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A “Canonical” Natural Network has…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Few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nnected compon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ten only 1 or a small number, indep. of network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di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ten a constant independent of network size (like 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 perhaps growing only logarithmically with network size or even shrin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ypically exclude infinite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degree of clust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nsiderably more so than for a random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tension with small di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heavy-tail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degree distrib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small but reliable number of high-degree ver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ten of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power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C839-552E-4F2E-8471-28C440E41CB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9F5F-C8D3-455A-B96E-35236CAECF8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: Mining on Social Networks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D. Liben-Nowell and J. Kleinberg. The Link Prediction Problem for Social Networks. CIKM’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. Domingos and M. Richardson, Mining the Network Value of Customers. KDD’0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. Richardson and P. Domingos, Mining Knowledge-Sharing Sites for Viral Marketing. KDD’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D. Kempe, J. Kleinberg, and E. Tardos, Maximizing the Spread of Influence through a Social Network. KDD’03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. Domingos, Mining Social Networks for Viral Marketing. IEEE Intelligent Systems, 20(1), 80-82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. Brin and L. Page, The anatomy of a large scale hypertextual Web search engine. WWW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. Chakrabarti, B. Dom, D. Gibson, J. Kleinberg, S.R. Kumar, P. Raghavan, S. Rajagopalan, and A. Tomkins, Mining the link structure of the World Wide Web. IEEE Computer’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D. Cai, X. He, J. Wen, and W. Ma, Block-level Link Ana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IGIR'200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F5AF-F264-40A8-92F6-D43E54F42F84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EBDB-A48D-44A6-A3C3-F3CFEAA456C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Other References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cture notes from Professor Lise Getoor’s webs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SimSun"/>
                <a:hlinkClick r:id="rId1"/>
              </a:rPr>
              <a:t>http://www.cs.umd.edu/~getoor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cture notes from Professor ChengXiang Zhai’s webs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SimSun"/>
                <a:hlinkClick r:id="rId2"/>
              </a:rPr>
              <a:t>http://www-faculty.cs.uiuc.edu/~czhai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A310-82B3-4DA3-8DF3-709A4A25B5E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3A28-B258-4202-96F9-DE4C6DCE4AC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Social Network Analysi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ocial Network 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tatistics and Probabil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Models of Social Network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Networks in Biolog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ning 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 Soci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7315200" y="2666880"/>
            <a:ext cx="838080" cy="228600"/>
          </a:xfrm>
          <a:prstGeom prst="leftArrow">
            <a:avLst>
              <a:gd name="adj1" fmla="val 0"/>
              <a:gd name="adj2" fmla="val 292833"/>
            </a:avLst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3DD2-456C-4024-9AEC-CA8C42D16EE0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924D-520A-43AD-B867-7309BB30A54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he Poisson Distribution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Picture 5" descr="poisson4"/>
          <p:cNvPicPr/>
          <p:nvPr/>
        </p:nvPicPr>
        <p:blipFill>
          <a:blip r:embed="rId1"/>
          <a:stretch/>
        </p:blipFill>
        <p:spPr>
          <a:xfrm>
            <a:off x="4419720" y="1523880"/>
            <a:ext cx="4495680" cy="3324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poisson_photoelectrons"/>
          <p:cNvPicPr/>
          <p:nvPr/>
        </p:nvPicPr>
        <p:blipFill>
          <a:blip r:embed="rId2"/>
          <a:stretch/>
        </p:blipFill>
        <p:spPr>
          <a:xfrm>
            <a:off x="314280" y="1676520"/>
            <a:ext cx="4029120" cy="4029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609480" y="5791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굴림"/>
              </a:rPr>
              <a:t>single photoelectron distribu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0BD5-36C9-4D6A-836C-0D8B52B34088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6C74-0BD6-480D-9839-BD736F74D75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371600" y="51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Linear scales on both ax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7" descr="zipf_linear"/>
          <p:cNvPicPr/>
          <p:nvPr/>
        </p:nvPicPr>
        <p:blipFill>
          <a:blip r:embed="rId1"/>
          <a:stretch/>
        </p:blipFill>
        <p:spPr>
          <a:xfrm>
            <a:off x="1447920" y="2833560"/>
            <a:ext cx="2514600" cy="2239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zipf_log"/>
          <p:cNvPicPr/>
          <p:nvPr/>
        </p:nvPicPr>
        <p:blipFill>
          <a:blip r:embed="rId2"/>
          <a:stretch/>
        </p:blipFill>
        <p:spPr>
          <a:xfrm>
            <a:off x="4876920" y="2841480"/>
            <a:ext cx="2514600" cy="224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472428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Logarithmic scales on both ax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85800" y="16002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same data plotted on linear and logarithmic scales. Both plots show a Zipf distribution with 300 datapoi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Zipf’s Law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Paolo</cp:lastModifiedBy>
  <cp:lastPrinted>1999-09-10T20:38:56Z</cp:lastPrinted>
  <dcterms:modified xsi:type="dcterms:W3CDTF">2008-05-20T06:43:40Z</dcterms:modified>
  <cp:revision>401</cp:revision>
  <dc:subject/>
  <dc:title>No Slide Title</dc:title>
</cp:coreProperties>
</file>